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B54A-D56B-4314-9F51-6D9FE1575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565E-630A-4781-BAAA-8B7A51A6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898E-6354-47D9-A33A-810A7186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F8EA-B171-4423-88B8-A313AB91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EAD8-29B6-4024-ABE1-3998CC22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E292-B6BB-4DF9-B1FC-595D2E6C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ACC1-F8B2-4970-8E09-F819BAC6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CC73-43F2-48D2-BC11-06E5455C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AF70-96DF-46ED-831E-DF6C2F0A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08E0-1609-403F-98B7-BA020780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43F9-4B97-4BED-940B-81013BFD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44E9-2072-4F1B-87F8-23C18E83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3CE8-08E0-41C5-808F-64C8B72FB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-1752" t="0" r="0" b="-2229"/>
          <a:stretch/>
        </p:blipFill>
        <p:spPr>
          <a:xfrm rot="18602400">
            <a:off x="2746800" y="1092600"/>
            <a:ext cx="3379680" cy="3299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06920" y="2133720"/>
            <a:ext cx="1655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VT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64000" y="3645000"/>
            <a:ext cx="1800000" cy="17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98920" y="3284640"/>
            <a:ext cx="3528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-Nav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4720" y="5157720"/>
            <a:ext cx="2735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ledge of the VTS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5805360"/>
            <a:ext cx="36003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tuational awareness in a VTS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5878440"/>
            <a:ext cx="381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with vess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13440" y="4581360"/>
            <a:ext cx="25909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vali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42920" y="4510080"/>
            <a:ext cx="208764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TS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5280" y="5229360"/>
            <a:ext cx="35290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utical knowl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3440" y="3860640"/>
            <a:ext cx="3743280" cy="2016360"/>
          </a:xfrm>
          <a:prstGeom prst="ellipse">
            <a:avLst/>
          </a:prstGeom>
          <a:solidFill>
            <a:srgbClr val="c0c0c0">
              <a:alpha val="47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TS FUN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, TOS, N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6" idx="1"/>
            <a:endCxn id="44" idx="1"/>
          </p:cNvCxnSpPr>
          <p:nvPr/>
        </p:nvCxnSpPr>
        <p:spPr>
          <a:xfrm flipH="1" rot="10800000">
            <a:off x="1042920" y="3607920"/>
            <a:ext cx="1656360" cy="2485440"/>
          </a:xfrm>
          <a:prstGeom prst="bentConnector3">
            <a:avLst>
              <a:gd name="adj1" fmla="val -14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1"/>
            <a:endCxn id="44" idx="1"/>
          </p:cNvCxnSpPr>
          <p:nvPr/>
        </p:nvCxnSpPr>
        <p:spPr>
          <a:xfrm flipH="1" rot="10800000">
            <a:off x="1044360" y="3607920"/>
            <a:ext cx="1654560" cy="1801440"/>
          </a:xfrm>
          <a:prstGeom prst="bentConnector3">
            <a:avLst>
              <a:gd name="adj1" fmla="val -1399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" name=""/>
          <p:cNvCxnSpPr>
            <a:stCxn id="49" idx="1"/>
            <a:endCxn id="44" idx="1"/>
          </p:cNvCxnSpPr>
          <p:nvPr/>
        </p:nvCxnSpPr>
        <p:spPr>
          <a:xfrm flipH="1" rot="10800000">
            <a:off x="1042920" y="3608280"/>
            <a:ext cx="1656360" cy="1153800"/>
          </a:xfrm>
          <a:prstGeom prst="bentConnector3">
            <a:avLst>
              <a:gd name="adj1" fmla="val -14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7" idx="3"/>
            <a:endCxn id="44" idx="3"/>
          </p:cNvCxnSpPr>
          <p:nvPr/>
        </p:nvCxnSpPr>
        <p:spPr>
          <a:xfrm flipH="1" flipV="1">
            <a:off x="6227640" y="3608280"/>
            <a:ext cx="2377080" cy="2522160"/>
          </a:xfrm>
          <a:prstGeom prst="bentConnector3">
            <a:avLst>
              <a:gd name="adj1" fmla="val -97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50" idx="3"/>
            <a:endCxn id="44" idx="3"/>
          </p:cNvCxnSpPr>
          <p:nvPr/>
        </p:nvCxnSpPr>
        <p:spPr>
          <a:xfrm flipH="1" flipV="1">
            <a:off x="6227640" y="3608280"/>
            <a:ext cx="2377080" cy="1873080"/>
          </a:xfrm>
          <a:prstGeom prst="bentConnector3">
            <a:avLst>
              <a:gd name="adj1" fmla="val -97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8" idx="3"/>
            <a:endCxn id="44" idx="3"/>
          </p:cNvCxnSpPr>
          <p:nvPr/>
        </p:nvCxnSpPr>
        <p:spPr>
          <a:xfrm flipH="1" flipV="1">
            <a:off x="6227640" y="3608280"/>
            <a:ext cx="2377080" cy="1225080"/>
          </a:xfrm>
          <a:prstGeom prst="bentConnector3">
            <a:avLst>
              <a:gd name="adj1" fmla="val -972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55640" y="62064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112392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LOT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70028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STO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2200" y="2276640"/>
            <a:ext cx="128592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90560" y="33192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t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53440" y="169848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YDROGRAP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64360" y="227664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ILIT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1800" y="112392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LLU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V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93080" y="54612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HIP OWN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57800" y="25884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S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71640" y="18720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81440" y="11448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R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32360" y="18720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IRW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I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661080" y="277956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TEOROL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826920" y="4761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826920" y="5408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826920" y="6093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8675280" y="5479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8675280" y="61308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8675280" y="4832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98100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00720" y="90792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AST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MI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16720" y="141300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TIO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MI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58920" y="148428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ORDE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92720" y="69228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SHER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0000" y="69228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L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270828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3:21:52Z</dcterms:created>
  <dc:creator>SonninenS</dc:creator>
  <dc:description/>
  <dc:language>en-US</dc:language>
  <cp:lastModifiedBy>SonninenS</cp:lastModifiedBy>
  <dcterms:modified xsi:type="dcterms:W3CDTF">2008-03-06T10:10:47Z</dcterms:modified>
  <cp:revision>17</cp:revision>
  <dc:subject/>
  <dc:title>Dia 1</dc:title>
</cp:coreProperties>
</file>